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832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076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588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832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076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95400" y="241200"/>
            <a:ext cx="709128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1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2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3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4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5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6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pic>
        <p:nvPicPr>
          <p:cNvPr id="2" name="Picture 33" descr="app"/>
          <p:cNvPicPr/>
          <p:nvPr/>
        </p:nvPicPr>
        <p:blipFill>
          <a:blip r:embed="rId2"/>
          <a:stretch/>
        </p:blipFill>
        <p:spPr>
          <a:xfrm>
            <a:off x="-4680" y="-9360"/>
            <a:ext cx="9148680" cy="977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4" descr="app"/>
          <p:cNvPicPr/>
          <p:nvPr/>
        </p:nvPicPr>
        <p:blipFill>
          <a:blip r:embed="rId3"/>
          <a:stretch/>
        </p:blipFill>
        <p:spPr>
          <a:xfrm>
            <a:off x="-4680" y="992160"/>
            <a:ext cx="9148680" cy="98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7" descr="logo_hidrografico_br_rgb"/>
          <p:cNvPicPr/>
          <p:nvPr/>
        </p:nvPicPr>
        <p:blipFill>
          <a:blip r:embed="rId4"/>
          <a:stretch/>
        </p:blipFill>
        <p:spPr>
          <a:xfrm>
            <a:off x="136440" y="93600"/>
            <a:ext cx="1727280" cy="773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8" descr="app"/>
          <p:cNvPicPr/>
          <p:nvPr/>
        </p:nvPicPr>
        <p:blipFill>
          <a:blip r:embed="rId5"/>
          <a:stretch/>
        </p:blipFill>
        <p:spPr>
          <a:xfrm>
            <a:off x="-9360" y="6581880"/>
            <a:ext cx="7481880" cy="79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" name="Picture 39" descr=""/>
          <p:cNvPicPr/>
          <p:nvPr/>
        </p:nvPicPr>
        <p:blipFill>
          <a:blip r:embed="rId6"/>
          <a:stretch/>
        </p:blipFill>
        <p:spPr>
          <a:xfrm>
            <a:off x="7480440" y="6232680"/>
            <a:ext cx="12888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IALA Questionnaire 2011 (M2)</a:t>
            </a:r>
            <a:br>
              <a:rPr sz="2800"/>
            </a:b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[2010 data]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3789360"/>
            <a:ext cx="8569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Victor Conceição – Hydrographic instit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Jorge Teles – Lighthouses Authority (P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99d"/>
                </a:solidFill>
                <a:latin typeface="Tahoma"/>
              </a:rPr>
              <a:t>santos.teles@marinha.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Arlindo Santos – Lighthouses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AIS / RAC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222200"/>
          <a:ext cx="9144000" cy="502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22200"/>
                    <a:ext cx="914400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44000" cy="521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14960" y="5877000"/>
            <a:ext cx="31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gis.hidrografico.pt/ial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RAC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99d"/>
                </a:solidFill>
                <a:latin typeface="Tahoma"/>
              </a:rPr>
              <a:t>RAC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Installed on buoy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7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Installed on fixed Aid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5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5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2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1557360"/>
          <a:ext cx="9144000" cy="436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RAC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9640" y="1790640"/>
            <a:ext cx="7971120" cy="1007280"/>
            <a:chOff x="539640" y="1790640"/>
            <a:chExt cx="7971120" cy="1007280"/>
          </a:xfrm>
        </p:grpSpPr>
        <p:grpSp>
          <p:nvGrpSpPr>
            <p:cNvPr id="55" name=""/>
            <p:cNvGrpSpPr/>
            <p:nvPr/>
          </p:nvGrpSpPr>
          <p:grpSpPr>
            <a:xfrm>
              <a:off x="539640" y="1790640"/>
              <a:ext cx="7720200" cy="1007280"/>
              <a:chOff x="539640" y="1790640"/>
              <a:chExt cx="7720200" cy="1007280"/>
            </a:xfrm>
          </p:grpSpPr>
          <p:sp>
            <p:nvSpPr>
              <p:cNvPr id="56" name=""/>
              <p:cNvSpPr/>
              <p:nvPr/>
            </p:nvSpPr>
            <p:spPr>
              <a:xfrm>
                <a:off x="539640" y="2295360"/>
                <a:ext cx="750888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7673040" y="1790640"/>
                <a:ext cx="586800" cy="1007280"/>
                <a:chOff x="7673040" y="1790640"/>
                <a:chExt cx="586800" cy="1007280"/>
              </a:xfrm>
            </p:grpSpPr>
            <p:sp>
              <p:nvSpPr>
                <p:cNvPr id="58" name=""/>
                <p:cNvSpPr/>
                <p:nvPr/>
              </p:nvSpPr>
              <p:spPr>
                <a:xfrm rot="16200000">
                  <a:off x="7533720" y="1929600"/>
                  <a:ext cx="503280" cy="22500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6160 h 225000"/>
                    <a:gd name="textAreaBottom" fmla="*/ 168840 h 225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 rot="5400000">
                  <a:off x="7534080" y="2433600"/>
                  <a:ext cx="502920" cy="22500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6160 h 225000"/>
                    <a:gd name="textAreaBottom" fmla="*/ 168840 h 225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911720" y="193536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909920" y="247176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" name=""/>
            <p:cNvSpPr/>
            <p:nvPr/>
          </p:nvSpPr>
          <p:spPr>
            <a:xfrm rot="10800000">
              <a:off x="8267040" y="202068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A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599d"/>
                </a:solidFill>
                <a:latin typeface="Tahoma"/>
              </a:rPr>
              <a:t>Automatic Identification System (A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AIS Station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4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15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AIS on buoy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5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14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AIS on fixed Aid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9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00599d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8000" y="1073160"/>
          <a:ext cx="9036000" cy="53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073160"/>
                    <a:ext cx="9036000" cy="53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A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55480" y="1484280"/>
            <a:ext cx="7832160" cy="1007280"/>
            <a:chOff x="555480" y="1484280"/>
            <a:chExt cx="7832160" cy="1007280"/>
          </a:xfrm>
        </p:grpSpPr>
        <p:grpSp>
          <p:nvGrpSpPr>
            <p:cNvPr id="69" name=""/>
            <p:cNvGrpSpPr/>
            <p:nvPr/>
          </p:nvGrpSpPr>
          <p:grpSpPr>
            <a:xfrm>
              <a:off x="555480" y="1484280"/>
              <a:ext cx="7582680" cy="1007280"/>
              <a:chOff x="555480" y="1484280"/>
              <a:chExt cx="7582680" cy="1007280"/>
            </a:xfrm>
          </p:grpSpPr>
          <p:sp>
            <p:nvSpPr>
              <p:cNvPr id="70" name=""/>
              <p:cNvSpPr/>
              <p:nvPr/>
            </p:nvSpPr>
            <p:spPr>
              <a:xfrm>
                <a:off x="555480" y="1989000"/>
                <a:ext cx="737568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7562160" y="1484280"/>
                <a:ext cx="576000" cy="1007280"/>
                <a:chOff x="7562160" y="1484280"/>
                <a:chExt cx="576000" cy="1007280"/>
              </a:xfrm>
            </p:grpSpPr>
            <p:sp>
              <p:nvSpPr>
                <p:cNvPr id="72" name=""/>
                <p:cNvSpPr/>
                <p:nvPr/>
              </p:nvSpPr>
              <p:spPr>
                <a:xfrm rot="16200000">
                  <a:off x="7421040" y="1625400"/>
                  <a:ext cx="503280" cy="22104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5080 h 221040"/>
                    <a:gd name="textAreaBottom" fmla="*/ 165960 h 22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V="1" rot="5400000">
                  <a:off x="7421040" y="2129040"/>
                  <a:ext cx="502920" cy="22104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5080 h 221040"/>
                    <a:gd name="textAreaBottom" fmla="*/ 165960 h 22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790040" y="162900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789320" y="216540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" name=""/>
            <p:cNvSpPr/>
            <p:nvPr/>
          </p:nvSpPr>
          <p:spPr>
            <a:xfrm rot="10800000">
              <a:off x="8143920" y="171432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Rectangle 3"/>
          <p:cNvGraphicFramePr/>
          <p:nvPr/>
        </p:nvGraphicFramePr>
        <p:xfrm>
          <a:off x="0" y="1432080"/>
          <a:ext cx="91440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2080"/>
                    <a:ext cx="91440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A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95280" y="1755720"/>
            <a:ext cx="7989120" cy="1007280"/>
            <a:chOff x="395280" y="1755720"/>
            <a:chExt cx="7989120" cy="1007280"/>
          </a:xfrm>
        </p:grpSpPr>
        <p:grpSp>
          <p:nvGrpSpPr>
            <p:cNvPr id="81" name=""/>
            <p:cNvGrpSpPr/>
            <p:nvPr/>
          </p:nvGrpSpPr>
          <p:grpSpPr>
            <a:xfrm>
              <a:off x="395280" y="1755720"/>
              <a:ext cx="7737840" cy="1007280"/>
              <a:chOff x="395280" y="1755720"/>
              <a:chExt cx="7737840" cy="1007280"/>
            </a:xfrm>
          </p:grpSpPr>
          <p:sp>
            <p:nvSpPr>
              <p:cNvPr id="82" name=""/>
              <p:cNvSpPr/>
              <p:nvPr/>
            </p:nvSpPr>
            <p:spPr>
              <a:xfrm>
                <a:off x="395280" y="2260440"/>
                <a:ext cx="752652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7545240" y="1755720"/>
                <a:ext cx="587880" cy="1007280"/>
                <a:chOff x="7545240" y="1755720"/>
                <a:chExt cx="587880" cy="1007280"/>
              </a:xfrm>
            </p:grpSpPr>
            <p:sp>
              <p:nvSpPr>
                <p:cNvPr id="84" name=""/>
                <p:cNvSpPr/>
                <p:nvPr/>
              </p:nvSpPr>
              <p:spPr>
                <a:xfrm rot="16200000">
                  <a:off x="7406280" y="1894680"/>
                  <a:ext cx="503280" cy="22536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6160 h 225360"/>
                    <a:gd name="textAreaBottom" fmla="*/ 169200 h 225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V="1" rot="5400000">
                  <a:off x="7406280" y="2398320"/>
                  <a:ext cx="502920" cy="22536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6160 h 225360"/>
                    <a:gd name="textAreaBottom" fmla="*/ 169200 h 225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785000" y="190044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83200" y="243684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 rot="10800000">
              <a:off x="8140680" y="198432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AIS / RAC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Rectangle 3"/>
          <p:cNvGraphicFramePr/>
          <p:nvPr/>
        </p:nvGraphicFramePr>
        <p:xfrm>
          <a:off x="-181080" y="1120680"/>
          <a:ext cx="9325080" cy="513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120680"/>
                    <a:ext cx="932508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AIS / RAC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1090440"/>
          <a:ext cx="896472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90440"/>
                    <a:ext cx="896472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27:50Z</dcterms:created>
  <dc:creator>field</dc:creator>
  <dc:description/>
  <dc:language>en-US</dc:language>
  <cp:lastModifiedBy>Divisão Navegação - NS</cp:lastModifiedBy>
  <dcterms:modified xsi:type="dcterms:W3CDTF">2012-05-16T00:37:53Z</dcterms:modified>
  <cp:revision>36</cp:revision>
  <dc:subject/>
  <dc:title>Slide 1</dc:title>
</cp:coreProperties>
</file>